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25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8.png" ContentType="image/png"/>
  <Override PartName="/ppt/media/image7.png" ContentType="image/png"/>
  <Override PartName="/ppt/media/image9.png" ContentType="image/png"/>
  <Override PartName="/ppt/media/image13.jpeg" ContentType="image/jpeg"/>
  <Override PartName="/ppt/media/image30.jpeg" ContentType="image/jpeg"/>
  <Override PartName="/ppt/media/image23.jpeg" ContentType="image/jpeg"/>
  <Override PartName="/ppt/media/image12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3D50-8CA8-476F-B283-BA5F1FEBB7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ened Birds of In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ened Birds of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ang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12 bird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ang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12 bird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eat Indian Bustard Ardeotis nigrice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istorically spread all over Indian subcontinent. Now restricted to only a few places in Rajasthan, Maharashtra, Karnataka, Andhra Pradesh and Madhya Prade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bitat specialist birds representative of Grass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reats – expansion of agriculture, habitat fragmentation, overgrazing, pesticides and hun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eat Indian Bustard Ardeotis nigric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istorically spread all over Indian subcontinent. Now restricted to only a few places in Rajasthan, Maharashtra, Karnataka, Andhra Pradesh and Madhya Prade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bitat specialist birds representative of 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ats – expansion of agriculture, habitat fragmentation, overgrazing, pesticides and h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ner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59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uln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59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t-billed Pelican Pelecanus philippen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ecies found all over India in large wet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pulation is declining very f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– destruction of nesting habitat, drainage and pollution of wetlands and dearth of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t-billed Pelican Pelecanus philippen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ies found all over India in large wet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pulation is declining very 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– destruction of nesting habitat, drainage and pollution of wetlands and dearth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us Crane Grus antig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ically widespread all over south Asia and Australia. Now declining all over its 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- primarily threatened by a combination of habitat loss and modification (owing primarily to agricultural expansion), pollution and persec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us Crane Grus antig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ly widespread all over south Asia and Australia. Now declining all over its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- primarily threatened by a combination of habitat loss and modification (owing primarily to agricultural expansion), pollution and pers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reaten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58 species which fall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Threaten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58 species which fall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nted Stork Mycteria leucoceph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despread and locally common resident in South east As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frequents freshwater marshes, lakes and reservoirs, flooded fields, paddy fields, freshwater swamp forests, riverbanks, intertidal mudflats and saltp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- habitat loss, disturbance, pollution and hunting of adults and collection of eggs and nestlings from colonies is cause for conc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nted Stork Mycteria leucoceph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spread and locally common resident in South east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frequents freshwater marshes, lakes and reservoirs, flooded fields, paddy fields, freshwater swamp forests, riverbanks, intertidal mudflats and saltp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- habitat loss, disturbance, pollution and hunting of adults and collection of eggs and nestlings from colonies is cause for 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er Flamingo Phoeniconaias min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only in Asia and African Conti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year 10%  population decline is observed in Africa. It breeds in Little Run of Katch in Gujar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breeding, disperse over Indian Subconti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– water pollution, disturbance to nesting sites and  habitat destr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er Flamingo Phoeniconaias mi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only in Asia and African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year 10%  population decline is observed in Africa. It breeds in Little Run of Katch in Gujar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breeding, disperse over Indian Sub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– water pollution, disturbance to nesting sites and  habitat de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birds are threat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 Destr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ansion of Agri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pid Industria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aching and Tr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al Warming and Climate Ch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birds are threate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 De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 of Agri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Industri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aching and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Warming and Climate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egories of threatened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inct – not seen at least for 50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itically Endangered – likely to be extin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angered – high risk of exti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nerable – risk of exti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reatened – close to vulner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st Concern – not qualify any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deficient – no information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ies of threatened 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 – not seen at least for 5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ly Endangered – likely to be extin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angered – high risk of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ulnerable – risk of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threatened – close to vuln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st Concern – not qualify any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deficient – no information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reatened Birds Scenar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atened Birds 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itically Endang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entral India we have 9 species of the birds which come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ly Endang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entral India we have 9 species of the birds which come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-backed Vulture Gyps bengalen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pecies is widely distributed in In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late 1990 it was in abundant but declined rapidl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 – veterinary use of  diclofenac for livest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-backed Vulture Gyps bengalen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pecies is widely distributed in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late 1990 it was in abundant but declined rapid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– veterinary use of  diclofenac for livest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-billed Vulture Gyps indi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pecies is also widely distributed in In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White-backed Vultures their population declined rapidly after 19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 – veterinary use of  diclofenac for cat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-billed Vulture Gyps indi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pecies is also widely distributed in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hite-backed Vultures their population declined rapidly after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– veterinary use of  diclofenac for c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rdon's Courser Rhinptilus bitorqu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is is endemic bird found in south-eastern Andhra Pradesh. Earlier known from few places in Central India from Godavari River bas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bitat specialist bird found only in scrub 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reats – habitat destruction because of human activi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erdon's Courser Rhinptilus bitorqu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s is endemic bird found in south-eastern Andhra Pradesh. Earlier known from few places in Central India from Godavari River bas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bitat specialist bird found only in scrub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ats – habitat destruction because of human activ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st Owlet Heteroglaux blewit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bird is endemic to Satpuda Mountains known from only from six places in Central India. Because of the Forest Owlet, the Central Indian Forests come under Endemic Bir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found in dry deciduous fore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– habitat destruction for fuel wood, illicit wood cutting, overgrazing and direct persecution by tri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st Owlet Heteroglaux blewi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ird is endemic to Satpuda Mountains known from only from six places in Central India. Because of the Forest Owlet, the Central Indian Forests come under Endemic Bird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found in dry deciduous fo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– habitat destruction for fuel wood, illicit wood cutting, overgrazing and direct persecution by tri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6C11-3402-4353-861E-3A4BED49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DFB6-009D-4983-85B8-A707A07D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50B6-AA5E-485F-86BE-90FFAED13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FF99-1A3F-4437-975C-90671A8F5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C7FE-3643-49C7-8D3A-1F69CD81B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A739-50B0-4944-81E7-7D48D099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B8C3-08B4-473C-9BC0-E4072384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3013-D1C2-41DB-BF30-6A3EECFA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EDF5-400E-4032-AD67-B1ADFDC9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8073-1B3C-4950-9FDE-4074A177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F399-B05B-48CA-B015-6DF3BADB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BE6E-B770-4057-8C91-721829D3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1A21-EE4A-488E-AF7F-2F0F227E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BFF4-3F37-4F25-8AC3-55AF55E4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38A2-0EB3-46D8-B992-52FA989C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D6BC-3371-48C2-B7BE-4C961B088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2DEC-19E2-4F60-80E4-80ABC84F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6E03F-3BD0-49F4-9BBF-3DE0703F3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FDD27-444E-4BB5-9815-81EE3152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A0FC5-3C1E-43C2-80B8-F1DB8A00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9F8B1-B432-4CDB-9CA1-BE869913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109FA-B0C6-46E3-997B-F8A10BB1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C80F-7537-4C90-AE23-82CD0604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54CB5-E159-4676-8E9D-9D52BF3C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25A97-EEAA-4DD1-8C3A-D5101FE6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FA809-415F-42CC-ACB5-8C642206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F7189-93B7-4F2C-981D-B291267B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F4C24-5415-4393-A0EE-7DE7003B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0C43D-74AE-4F97-8D9A-5FCDB7041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255AC-36FB-4182-9F99-85147175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234A8-BA6D-446F-9F07-841BF0056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2B58B-3B84-4E1A-B31E-D613114A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AB4D6-0877-4086-AC58-422EF26E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450F-D9DC-4306-9D54-7309262A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2561E-3CB0-4778-93B8-DC0FCF6D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62106-69F8-483D-8C58-765264C9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5DF2B-A0D9-4C6F-ACBC-746F85D5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E9E55-1137-4AF2-98F6-70E07EF7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6E76C-7497-4C28-8C58-3A92EE81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DCC22-29C3-42A8-9862-6FA89ED6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2801D-C83A-4D22-9DE1-36017503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0D318-3D0D-4CE8-B52C-7C1F7DEA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27FE2-BA04-4EE4-A46A-A3116257F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850C0-8DCD-4231-B8C3-FAF48DE0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C271-20BB-4E32-82D7-19BCDDD2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BA08F-3D51-4F74-9C5E-79485466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C2A1C-B1BC-40F4-ADBE-DA5B4058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C7C0A-FEE0-4D29-B6BE-F8C5A215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E8427-F45D-451B-9E49-9E3B559A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A7988-3FEA-40E7-89E9-8A859357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39C61-B834-469B-8BE6-26B0A7AB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DEAE3-2B9C-4B91-A086-6E610186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8E0B8-3489-4B92-9D1B-882C7E62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88BA5-1E1C-4053-8441-3BD88CE8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99876-4EA3-49A4-84A7-F058C063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DBA8-78A5-41AA-A491-12E8D64B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ABD30-1425-4A53-8194-14ABF3B3F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EF005-CE72-41E2-9CCA-D1945F3B4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D4F4F-1D21-4A55-A9C5-510B2466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4473C-257D-4FF9-AA02-CD810113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518FC-9D68-440A-B85D-4D74D1A2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45562-0378-4EB4-BACD-32192415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0B420-6E3F-4733-A9E3-248EE9D9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D3C4F-23AA-4BFF-85B4-17F2E18C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5BB6E-AC2E-4229-AB99-7A3FFEAB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926B3-DF8D-44A0-A93F-8C0FBAFF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4015-5E3D-4254-8CE5-369CC0FB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AA025-164F-4D2D-BFEF-972EA98D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4F5AE-A919-4F88-A478-5C7D3630B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D58F5-E6D5-48E9-B53E-9AD156C07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89674-B8C7-4D4B-9F4E-FFFC1B90B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26B09-2B64-4A46-9A7F-0466244A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B345C-5AC4-49F5-9A17-F46786EB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14540-BB24-41DD-A55A-99BEA5C0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0313C-026E-46CE-8A2D-BAB1D48E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3A975-6FFA-4B65-A837-A2420305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EB76A-1304-40D2-AF3F-FC61FCD1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C65F-2014-4526-880D-687B1E5F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B8124-E182-4172-9247-5D991A70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F8CB4-FEEB-4803-AB62-9296ECD1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B3C14-FD2F-408D-B4D4-F47164F5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09DE7-0661-409B-8802-9B8C17DC8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FB9A1-002E-4326-886D-699A69B38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08FC-72DA-4FB7-947C-FF236415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8276-17E4-450F-ADB2-1D21DA801F45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B079-067C-4B20-A0FB-CDA2DC07F5A3}" type="slidenum">
              <a:rPr b="0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B54B-89F5-47D5-91AB-792E006F905C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4e7ed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0028-D096-406C-A23C-0C5E09708723}" type="slidenum">
              <a:rPr b="0" lang="en-GB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F9C4-5D55-402F-89CC-C99985D61FED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7FAD-DBEF-4531-BE46-EEDEC2DAE07C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6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4436-E45F-4606-AA35-74F35A8D6C0D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4" descr=""/>
          <p:cNvPicPr/>
          <p:nvPr/>
        </p:nvPicPr>
        <p:blipFill>
          <a:blip r:embed="rId1"/>
          <a:stretch/>
        </p:blipFill>
        <p:spPr>
          <a:xfrm>
            <a:off x="212760" y="274320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316" name="Нижний колонтитул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2857320"/>
            <a:ext cx="8229600" cy="18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 have 12 bird species which come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Rectangle 2" descr=""/>
          <p:cNvPicPr/>
          <p:nvPr/>
        </p:nvPicPr>
        <p:blipFill>
          <a:blip r:embed="rId1"/>
          <a:stretch/>
        </p:blipFill>
        <p:spPr>
          <a:xfrm>
            <a:off x="487440" y="0"/>
            <a:ext cx="7974000" cy="139068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038120" y="1600200"/>
            <a:ext cx="4800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istorically spread all over Indian subcontinent. Now restricted to only a few places in Rajasthan, Maharashtra, Karnataka, Andhra Pradesh and Madhya Pradesh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abitat specialist birds representative of Grassland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reats – expansion of agriculture, habitat fragmentation, overgrazing, pesticides and hunting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1" name="Picture 4" descr="Great Indian Bustard"/>
          <p:cNvPicPr/>
          <p:nvPr/>
        </p:nvPicPr>
        <p:blipFill>
          <a:blip r:embed="rId2"/>
          <a:stretch/>
        </p:blipFill>
        <p:spPr>
          <a:xfrm>
            <a:off x="304920" y="1676520"/>
            <a:ext cx="3406680" cy="4114800"/>
          </a:xfrm>
          <a:prstGeom prst="rect">
            <a:avLst/>
          </a:prstGeom>
          <a:ln w="0">
            <a:noFill/>
          </a:ln>
        </p:spPr>
      </p:pic>
      <p:sp>
        <p:nvSpPr>
          <p:cNvPr id="35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9144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 have 59 species which come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712800" y="0"/>
            <a:ext cx="8431200" cy="13906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species found all over India in large wetland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population is declining very fas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reats – destruction of nesting habitat, drainage and pollution of wetlands and dearth of foo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8" name="Picture 4" descr="Spot-bellied-Pelican"/>
          <p:cNvPicPr/>
          <p:nvPr/>
        </p:nvPicPr>
        <p:blipFill>
          <a:blip r:embed="rId2"/>
          <a:stretch/>
        </p:blipFill>
        <p:spPr>
          <a:xfrm>
            <a:off x="533520" y="2514600"/>
            <a:ext cx="3809880" cy="2725560"/>
          </a:xfrm>
          <a:prstGeom prst="rect">
            <a:avLst/>
          </a:prstGeom>
          <a:ln w="0">
            <a:noFill/>
          </a:ln>
        </p:spPr>
      </p:pic>
      <p:sp>
        <p:nvSpPr>
          <p:cNvPr id="35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712800" y="-79200"/>
            <a:ext cx="7974000" cy="13716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419720" y="19051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istorically widespread all over south Asia and Australia. Now declining all over its rang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reats - primarily threatened by a combination of habitat loss and modification (owing primarily to agricultural expansion), pollution and persecu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62" name="Picture 4" descr="Sarus-Crane"/>
          <p:cNvPicPr/>
          <p:nvPr/>
        </p:nvPicPr>
        <p:blipFill>
          <a:blip r:embed="rId2"/>
          <a:stretch/>
        </p:blipFill>
        <p:spPr>
          <a:xfrm>
            <a:off x="380880" y="2057400"/>
            <a:ext cx="3810240" cy="3070080"/>
          </a:xfrm>
          <a:prstGeom prst="rect">
            <a:avLst/>
          </a:prstGeom>
          <a:ln w="0">
            <a:noFill/>
          </a:ln>
        </p:spPr>
      </p:pic>
      <p:sp>
        <p:nvSpPr>
          <p:cNvPr id="36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838080" y="2743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 have 58 species which fall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Rectangle 2" descr=""/>
          <p:cNvPicPr/>
          <p:nvPr/>
        </p:nvPicPr>
        <p:blipFill>
          <a:blip r:embed="rId1"/>
          <a:stretch/>
        </p:blipFill>
        <p:spPr>
          <a:xfrm>
            <a:off x="487440" y="-152280"/>
            <a:ext cx="7974000" cy="139068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4495680" y="1142640"/>
            <a:ext cx="4572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Widespread and locally common resident in South east Asi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t frequents freshwater marshes, lakes and reservoirs, flooded fields, paddy fields, freshwater swamp forests, riverbanks, intertidal mudflats and saltpan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reats - habitat loss, disturbance, pollution and hunting of adults and collection of eggs and nestlings from colonies is cause for concer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69" name="Picture 4" descr="Painted-Stork"/>
          <p:cNvPicPr/>
          <p:nvPr/>
        </p:nvPicPr>
        <p:blipFill>
          <a:blip r:embed="rId2"/>
          <a:stretch/>
        </p:blipFill>
        <p:spPr>
          <a:xfrm>
            <a:off x="152280" y="1600200"/>
            <a:ext cx="4191120" cy="3195720"/>
          </a:xfrm>
          <a:prstGeom prst="rect">
            <a:avLst/>
          </a:prstGeom>
          <a:ln w="0">
            <a:noFill/>
          </a:ln>
        </p:spPr>
      </p:pic>
      <p:sp>
        <p:nvSpPr>
          <p:cNvPr id="37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487440" y="0"/>
            <a:ext cx="7974000" cy="13906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495320" y="1447560"/>
            <a:ext cx="4496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nd only in Asia and African Contin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very year 10%  population decline is observed in Africa. It breeds in Little Run of Katch in Gujar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fter breeding, disperse over Indian Subcontin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reats – water pollution, disturbance to nesting sites and  habitat destruc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73" name="Picture 6" descr="B-0043"/>
          <p:cNvPicPr/>
          <p:nvPr/>
        </p:nvPicPr>
        <p:blipFill>
          <a:blip r:embed="rId2"/>
          <a:stretch/>
        </p:blipFill>
        <p:spPr>
          <a:xfrm>
            <a:off x="228600" y="2576520"/>
            <a:ext cx="4038480" cy="2681280"/>
          </a:xfrm>
          <a:prstGeom prst="rect">
            <a:avLst/>
          </a:prstGeom>
          <a:ln w="0">
            <a:noFill/>
          </a:ln>
        </p:spPr>
      </p:pic>
      <p:sp>
        <p:nvSpPr>
          <p:cNvPr id="37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4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Why birds are threate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bitat De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pansion of 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apid Industr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aching and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lobal Warming and Clima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6" descr="Habitat Destruction"/>
          <p:cNvPicPr/>
          <p:nvPr/>
        </p:nvPicPr>
        <p:blipFill>
          <a:blip r:embed="rId1"/>
          <a:stretch/>
        </p:blipFill>
        <p:spPr>
          <a:xfrm>
            <a:off x="3200400" y="1523880"/>
            <a:ext cx="2847960" cy="4343400"/>
          </a:xfrm>
          <a:prstGeom prst="rect">
            <a:avLst/>
          </a:prstGeom>
          <a:ln w="0">
            <a:noFill/>
          </a:ln>
        </p:spPr>
      </p:pic>
      <p:sp>
        <p:nvSpPr>
          <p:cNvPr id="32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2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Extinct – not seen at least for 50 yea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Critically Endangered – likely to be extinc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Endangered – high risk of extinc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Vulnerable – risk of extinc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Near threatened – close to vulnerab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Least Concern – not qualify any of the abov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Data deficient – no information availab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444600" y="0"/>
            <a:ext cx="8016840" cy="143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"/>
          <p:cNvGraphicFramePr/>
          <p:nvPr/>
        </p:nvGraphicFramePr>
        <p:xfrm>
          <a:off x="800280" y="1905120"/>
          <a:ext cx="7429320" cy="4114800"/>
        </p:xfrm>
        <a:graphic>
          <a:graphicData uri="http://schemas.openxmlformats.org/drawingml/2006/table">
            <a:tbl>
              <a:tblPr/>
              <a:tblGrid>
                <a:gridCol w="4076640"/>
                <a:gridCol w="1722240"/>
                <a:gridCol w="16304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ically Endange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ange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lner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ar Threatene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Rectangle 2" descr=""/>
          <p:cNvPicPr/>
          <p:nvPr/>
        </p:nvPicPr>
        <p:blipFill>
          <a:blip r:embed="rId1"/>
          <a:stretch/>
        </p:blipFill>
        <p:spPr>
          <a:xfrm>
            <a:off x="500040" y="-152280"/>
            <a:ext cx="8034480" cy="1450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990720" y="2971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 Central India we have 9 species of the birds which come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182520" y="-49320"/>
            <a:ext cx="8431200" cy="142092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4033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s species is widely distributed in Indi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ill late 1990 it was in abundant but declined rapidly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use – veterinary use of  diclofenac for livestock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2" name="Picture 4" descr="White-backed-vulture"/>
          <p:cNvPicPr/>
          <p:nvPr/>
        </p:nvPicPr>
        <p:blipFill>
          <a:blip r:embed="rId2"/>
          <a:stretch/>
        </p:blipFill>
        <p:spPr>
          <a:xfrm>
            <a:off x="4648320" y="1523880"/>
            <a:ext cx="4267080" cy="4267440"/>
          </a:xfrm>
          <a:prstGeom prst="rect">
            <a:avLst/>
          </a:prstGeom>
          <a:ln w="0">
            <a:noFill/>
          </a:ln>
        </p:spPr>
      </p:pic>
      <p:sp>
        <p:nvSpPr>
          <p:cNvPr id="33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Rectangle 2" descr=""/>
          <p:cNvPicPr/>
          <p:nvPr/>
        </p:nvPicPr>
        <p:blipFill>
          <a:blip r:embed="rId1"/>
          <a:stretch/>
        </p:blipFill>
        <p:spPr>
          <a:xfrm>
            <a:off x="712800" y="0"/>
            <a:ext cx="8431200" cy="139068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4495680" y="1752120"/>
            <a:ext cx="4648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s species is also widely distributed in Indi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Like White-backed Vultures their population declined rapidly after 1990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use – veterinary use of  diclofenac for cattl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6" name="Picture 4" descr="Long-billed-vulture"/>
          <p:cNvPicPr/>
          <p:nvPr/>
        </p:nvPicPr>
        <p:blipFill>
          <a:blip r:embed="rId2"/>
          <a:stretch/>
        </p:blipFill>
        <p:spPr>
          <a:xfrm>
            <a:off x="733320" y="1600200"/>
            <a:ext cx="3762360" cy="4114800"/>
          </a:xfrm>
          <a:prstGeom prst="rect">
            <a:avLst/>
          </a:prstGeom>
          <a:ln w="0">
            <a:noFill/>
          </a:ln>
        </p:spPr>
      </p:pic>
      <p:sp>
        <p:nvSpPr>
          <p:cNvPr id="33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Rectangle 2" descr=""/>
          <p:cNvPicPr/>
          <p:nvPr/>
        </p:nvPicPr>
        <p:blipFill>
          <a:blip r:embed="rId1"/>
          <a:stretch/>
        </p:blipFill>
        <p:spPr>
          <a:xfrm>
            <a:off x="487440" y="-79200"/>
            <a:ext cx="7974000" cy="139032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4800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s is endemic bird found in south-eastern Andhra Pradesh. Earlier known from few places in Central India from Godavari River basin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abitat specialist bird found only in scrub fores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reats – habitat destruction because of human activities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0" name="Picture 4" descr="Jerdon's-Courser"/>
          <p:cNvPicPr/>
          <p:nvPr/>
        </p:nvPicPr>
        <p:blipFill>
          <a:blip r:embed="rId2"/>
          <a:stretch/>
        </p:blipFill>
        <p:spPr>
          <a:xfrm>
            <a:off x="5516640" y="1600200"/>
            <a:ext cx="3246480" cy="4114800"/>
          </a:xfrm>
          <a:prstGeom prst="rect">
            <a:avLst/>
          </a:prstGeom>
          <a:ln w="0">
            <a:noFill/>
          </a:ln>
        </p:spPr>
      </p:pic>
      <p:sp>
        <p:nvSpPr>
          <p:cNvPr id="34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487440" y="-79200"/>
            <a:ext cx="7974000" cy="13903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228600" y="1828800"/>
            <a:ext cx="5105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s bird is endemic to Satpuda Mountains known from only from six places in Central India. Because of the Forest Owlet, the Central Indian Forests come under Endemic Bird Are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nly found in dry deciduous fores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reats – habitat destruction for fuel wood, illicit wood cutting, overgrazing and direct persecution by triba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4" name="Picture 4" descr="Forest Owlet"/>
          <p:cNvPicPr/>
          <p:nvPr/>
        </p:nvPicPr>
        <p:blipFill>
          <a:blip r:embed="rId2"/>
          <a:stretch/>
        </p:blipFill>
        <p:spPr>
          <a:xfrm>
            <a:off x="5467320" y="1600200"/>
            <a:ext cx="3524400" cy="3809880"/>
          </a:xfrm>
          <a:prstGeom prst="rect">
            <a:avLst/>
          </a:prstGeom>
          <a:ln w="0">
            <a:noFill/>
          </a:ln>
        </p:spPr>
      </p:pic>
      <p:sp>
        <p:nvSpPr>
          <p:cNvPr id="34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4:42:41Z</dcterms:created>
  <dc:creator> GIRISH</dc:creator>
  <dc:description/>
  <dc:language>en-US</dc:language>
  <cp:lastModifiedBy>LEGION</cp:lastModifiedBy>
  <dcterms:modified xsi:type="dcterms:W3CDTF">2018-03-12T09:10:25Z</dcterms:modified>
  <cp:revision>337</cp:revision>
  <dc:subject/>
  <dc:title>Slide 1</dc:title>
</cp:coreProperties>
</file>